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6D2-D0C9-4494-B390-738ED79D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1D3-D339-4165-BA1B-77C27830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877-8F8A-428C-A3C7-04F9F3BE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4B6-DEE1-455B-8871-D1A86310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C4C-4153-40B0-9FE2-F2C91613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3BA-9360-4886-9581-B8D8056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88B-F04F-44F6-9674-B9264814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851-1211-40EA-BD40-2DD2D36D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094-4C78-46CB-831E-8BFD65D1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0A0-D1B6-491B-8807-4957D50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539-E920-494A-85CB-331EC79D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E1F-910D-4F79-BDFA-29E6E481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CA03-C03A-4550-893D-E9B51B883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day selections –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a co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a C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uses an if or switch statements to test a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ev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tons Pro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ge 1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gram with two buttons uses an if statement to decide which was cli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source = = button1) … (“button1”) ;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… (“button2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or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&amp; 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|    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     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 ! (age &gt; 16)) {  … “too you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ce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130 - 1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wo sliders to choos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ests for win 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 (age &lt; 6) { … “child r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if (age &lt; 16) { … “junior r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… “adult r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of code compares days of week using ifs and switch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dayNumber = = 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Name = “Monday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dayNumber = =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Name = “Tuesday”;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 (dayNu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1 : dayName = “Monday”; br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2 : dayName = “Tuesday”; break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precedes each of the possible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transfers control (none of the other case limbs will be tes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will be the path if no other case statement ha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open =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hen a button labeled “Open” is clicked open will be assigned tr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= tr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pSign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138-1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open) … “open”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… “closed”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code – set to contents of textField code is then tested with an “if”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code.equals (“Bill”)) …”unlocked” is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atement allow control of the sequence of actions by testing. Following the test, the program carries out one of a choice of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…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” can be used with GUI events. getSource returns the object that caused the event using the = =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f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fe program page 114-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=  Integer.parseInt (codeSt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 code  = = 123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TextField.setText ( “unlocked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tch statements and bool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ed to tests on integers or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variables may hold 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when a variable has only two possibl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ram of if 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3733920"/>
            <a:ext cx="25146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590920"/>
            <a:ext cx="1523880" cy="1371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9625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51055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334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==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3886200"/>
            <a:ext cx="1447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f – else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age &gt; 17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Field.setText(“You may vot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{ decisionField.setText ( “Sorry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oting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117-1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2057400"/>
            <a:ext cx="2590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352680"/>
            <a:ext cx="1600200" cy="14479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4495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3809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 &gt;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13336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040" y="52578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56386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“Best Wish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  less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= 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= not equ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= less than equ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= greater than equ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ger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121 - 1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redValue &gt; blueValue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Field.setText(“Red is bigger”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{ textField.setText(“Blue is bigger”)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o test if red and blue ar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redValue = = blueValue) textField.setText(“They are equal”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124-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lider to set a temp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temp &gt; max) max = te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mbling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ice use the random number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1 and die2 are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 die1 = = die2) … “dice eq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 … “dice not eq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20:01:58Z</dcterms:created>
  <dc:creator>ITS</dc:creator>
  <dc:description/>
  <dc:language>en-US</dc:language>
  <cp:lastModifiedBy> </cp:lastModifiedBy>
  <dcterms:modified xsi:type="dcterms:W3CDTF">2005-04-30T20:24:31Z</dcterms:modified>
  <cp:revision>6</cp:revision>
  <dc:subject/>
  <dc:title>Selection Chapter 7</dc:title>
</cp:coreProperties>
</file>